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291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8976-03B2-40E2-B6EF-D7C4568DB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98F8-77CB-46FE-BDCA-040900AF4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15A1-863F-48A9-AFE6-26C62A6DC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20B9-FFEA-4CED-BEB2-80BE5C10A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F699F-CFBE-43BE-ABC2-594B72F38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A662F-62B0-4E34-B3A1-B4C10C852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5BE71-DBCA-4B99-9D9A-60D6D7975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E7B84-D791-4C41-B330-0A19AEECA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683BD-D93D-4621-9BEB-029DA1804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83D81-E8F3-4E9B-9582-A37310270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58925-7012-4709-A462-81DA02EE7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BDFB-B7B1-41C4-959C-469D47FDE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8F456-4665-42EF-A62E-B367255E1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FAF23-07B8-4D06-A7D7-4D70FA4EF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6D936-A209-4810-8B2D-39E810D55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3A5CC-E23E-4A1C-9C81-765A9E0E3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5614C-7BB8-40FA-A45D-55DE705DF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AA5C-771C-4245-9351-5A1E9A503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2893-9C05-4E3C-8A25-A4E2A63EB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51FF-1435-43CC-893F-0393C8E43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14B1-D913-413D-8E0E-B825540CB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A2FA-9FE3-4F9C-8BB1-F902F5AC5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8C23-5C4F-4383-9795-059EBC943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CB5E-F4D2-4D04-8AA4-805B9C5C3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3513C-8053-4367-AA13-14BA284C620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99685-9C23-44D5-B7DB-82CE90C2B24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mslavkovic@kg.ac.rs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7086600" cy="25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ff0000"/>
                </a:solidFill>
                <a:latin typeface="Arial"/>
              </a:rPr>
              <a:t>КОМУНИКАЦИЈА СА ПАЦИЈЕНТИМА</a:t>
            </a:r>
            <a:endParaRPr b="1" lang="en-US" sz="36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оц. др Марко Славков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1"/>
          <a:stretch/>
        </p:blipFill>
        <p:spPr>
          <a:xfrm>
            <a:off x="5715000" y="4419720"/>
            <a:ext cx="1424160" cy="163836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7"/>
          <p:cNvSpPr/>
          <p:nvPr/>
        </p:nvSpPr>
        <p:spPr>
          <a:xfrm>
            <a:off x="1600200" y="4952880"/>
            <a:ext cx="432108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УНИВЕРЗИТЕТ У КРАГУЈЕВЦ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ЕКОНОМСКИ ФАКУЛТ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Крагујевац, 2019. год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8"/>
          <p:cNvGraphicFramePr/>
          <p:nvPr/>
        </p:nvGraphicFramePr>
        <p:xfrm>
          <a:off x="380880" y="4419720"/>
          <a:ext cx="1447920" cy="177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4419720"/>
                    <a:ext cx="1447920" cy="17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6" name="Picture 7" descr="memo grb copy"/>
          <p:cNvPicPr/>
          <p:nvPr/>
        </p:nvPicPr>
        <p:blipFill>
          <a:blip r:embed="rId4"/>
          <a:stretch/>
        </p:blipFill>
        <p:spPr>
          <a:xfrm>
            <a:off x="762120" y="228600"/>
            <a:ext cx="769608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600" y="122400"/>
            <a:ext cx="8686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Комуникација </a:t>
            </a:r>
            <a:r>
              <a:rPr b="1" lang="sr-RS" sz="4400" spc="-1" strike="noStrike">
                <a:solidFill>
                  <a:srgbClr val="0000ff"/>
                </a:solidFill>
                <a:latin typeface="Arial"/>
              </a:rPr>
              <a:t>са рођацима који желе да прикрију истину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Испитати разлога прикривања исти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Објаснити породици да треба да прихвати пацијентову потребу за објашњењ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рво договорити да се разговора са пацијентом да се утврди колико он разуме сопствену ситуациј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Обећати да пацијент неће добити ниједну информацију коју не траж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Објаснити да саопштавање реалне ситуације даје више постора за постизање краткорочних циље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Објаснити да искрен разговор ствара осећај утех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Отворити могућност заједниког суср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осебно причати са онима који су за прикривањ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122400"/>
            <a:ext cx="76197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0000ff"/>
                </a:solidFill>
                <a:latin typeface="Arial"/>
              </a:rPr>
              <a:t>Препреке</a:t>
            </a: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 доброј комуникацији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ацијенти понекад не могу да нађу речи којима би изразили своја осећањ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ацијенти не желе да буду терет и боје се да ће “пући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ацијенти се стиде да признају да имају проблем са савладавањем сопствене ситуациј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Здравствени радници се боје да ће код пацијената изазвати душевни бо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Здравствени радници сматрају да емоционална подршка није део њихово посла и не знају како да то ура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Емоције пацијената могу лично да погађај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0000ff"/>
                </a:solidFill>
                <a:latin typeface="Arial"/>
              </a:rPr>
              <a:t>Препреке</a:t>
            </a: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 доброј комуникацији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ff"/>
                </a:solidFill>
                <a:latin typeface="Arial"/>
              </a:rPr>
              <a:t>Избегавати понашање које спречава комуникацију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Претерани давање савета и утехе, пре него што се идентификују главни пробле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Занемаривање душевног бо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Фокусирање искључиво на физичке аспект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Промене теме разгов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Успутно развесељавање пацијен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Хвала на пажњи</a:t>
            </a:r>
            <a:r>
              <a:rPr b="1" lang="en-US" sz="4800" spc="-1" strike="noStrike">
                <a:solidFill>
                  <a:srgbClr val="ff7547"/>
                </a:solidFill>
                <a:latin typeface="Arial"/>
              </a:rPr>
              <a:t>!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р Марко Славкови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8080"/>
                </a:solidFill>
                <a:uFillTx/>
                <a:latin typeface="Arial"/>
                <a:hlinkClick r:id="rId1"/>
              </a:rPr>
              <a:t>mslavkovic@kg.ac.r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ww.markoslavkovic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Комуникација са </a:t>
            </a:r>
            <a:r>
              <a:rPr b="1" lang="sr-RS" sz="4400" spc="-1" strike="noStrike">
                <a:solidFill>
                  <a:srgbClr val="0000ff"/>
                </a:solidFill>
                <a:latin typeface="Arial"/>
              </a:rPr>
              <a:t>старијим</a:t>
            </a: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 пацијентим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Говор уз осмех има већи ефека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Гледајте особу у лице, директан контакт очима боље држи пажњ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Елиминишите напетост код себ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Користите краће и јасне речениц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Оставите довољно времена саговорнику да разуме ваш гово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Дискретно проверавајте пажњу саговорни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оновите информацију ако је потребн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рилагодите јачину свог говора. Говорити гласно није увек најбоље, осим ако саговорник не чуј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Будите стрпљив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280" y="122400"/>
            <a:ext cx="8686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Комуникација са пацијентима </a:t>
            </a:r>
            <a:r>
              <a:rPr b="1" lang="sr-RS" sz="4400" spc="-1" strike="noStrike">
                <a:solidFill>
                  <a:srgbClr val="0000ff"/>
                </a:solidFill>
                <a:latin typeface="Arial"/>
              </a:rPr>
              <a:t>са ургентним психијат. стањ.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Градити однос са пацијентом заснован на емпатији, искрености и прихватањ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Развијати однос у коме се пацијент може љутити, а да притом не реагује агресиј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римењивати индивидуални приступ пацијен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редвидети могућност агресивног понашања и превентивно деловати на спречавању тог понашањ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оштовати болесникову потребу за личним простором (склонити ствари које га плаш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Не оптуживати болесника, да му јача осећај криви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Не изазивати болес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На занемаривати сопствену безбедно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122400"/>
            <a:ext cx="746784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Комуникација са</a:t>
            </a:r>
            <a:r>
              <a:rPr b="1" lang="sr-RS" sz="4400" spc="-1" strike="noStrike">
                <a:solidFill>
                  <a:srgbClr val="0000ff"/>
                </a:solidFill>
                <a:latin typeface="Arial"/>
              </a:rPr>
              <a:t> психотичним болесником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У комуникацији је битно стрпљење и поштовањ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одстицати болесника да опширније одговара на питања, да успостави социјални контакт са друг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Кратке једноставне реченице уз употребу социјалних подстицаја (шетња, игре, часописи ..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Није добро директно противречити болесниковим суманутим идејама, већ је боље открити шта се крије иза њ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Откривањем тога ствара се осећај поверењ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Не сме се избегавати комуникација – то болесник може протумачити као поступак против њема и реаговати још агресивниј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122400"/>
            <a:ext cx="746784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Комуникација са</a:t>
            </a:r>
            <a:r>
              <a:rPr b="1" lang="sr-RS" sz="4400" spc="-1" strike="noStrike">
                <a:solidFill>
                  <a:srgbClr val="0000ff"/>
                </a:solidFill>
                <a:latin typeface="Arial"/>
              </a:rPr>
              <a:t> депресивним болесником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одстицати га на комуникацију са другим болесниц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Суздржавати сопствену досаду и љутњ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Опрезно посматрати болесника, вербалан и невербалан гов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Објаснити сврху разгов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Користити изразе подрке и разумевањ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остављати му питања на које може дати кратке и једноставне одгово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Разговор треба да буде отворен и пун разумевањ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ажљиво испитати суицидне намере, без страха да ће му испитивање погоршати стањ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122400"/>
            <a:ext cx="746784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Комуникација са</a:t>
            </a:r>
            <a:r>
              <a:rPr b="1" lang="sr-RS" sz="4400" spc="-1" strike="noStrike">
                <a:solidFill>
                  <a:srgbClr val="0000ff"/>
                </a:solidFill>
                <a:latin typeface="Arial"/>
              </a:rPr>
              <a:t> агресивним болесником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Здравствени радник мора бити смирен и отвор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Треба проценити стање болесника: узнемиреност или “експлозија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оказати му жељу за разговором и слушањ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ризнати му да је љут и узнемир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Упозорити болесника да насилно понашање није прихватљи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Бити на сигурној удаље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Не прекидати болесником испа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Не показивати му слагање са оним са чим се не слажем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Настојати разуверити и опустити болес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600" y="122400"/>
            <a:ext cx="86104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Комуникација са </a:t>
            </a:r>
            <a:r>
              <a:rPr b="1" lang="sr-RS" sz="4400" spc="-1" strike="noStrike">
                <a:solidFill>
                  <a:srgbClr val="0000ff"/>
                </a:solidFill>
                <a:latin typeface="Arial"/>
              </a:rPr>
              <a:t>болесником у акутном напитом стању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Остати миран, представити се болеснику и успоставити контакт са оч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Не треба се према болеснику поставити изазивачки, нити тражити од њега да се смир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о потреби, неупадљиво треба звати помоћ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Разговор треба водити у већој просторији, јер мања просторија може развити осећај “затворености у клопку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Треба користити “Да, али ...” конструкцију. На пример: “Да, слажем се са вама, али можда би било добро да ..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122400"/>
            <a:ext cx="86104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Комуникација са </a:t>
            </a:r>
            <a:r>
              <a:rPr b="1" lang="sr-RS" sz="4400" spc="-1" strike="noStrike">
                <a:solidFill>
                  <a:srgbClr val="0000ff"/>
                </a:solidFill>
                <a:latin typeface="Arial"/>
              </a:rPr>
              <a:t>болесником са неповољном прогнозом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60-тих година </a:t>
            </a:r>
            <a:r>
              <a:rPr b="0" lang="sr-RS" sz="3600" spc="-1" strike="noStrike">
                <a:solidFill>
                  <a:srgbClr val="ff0000"/>
                </a:solidFill>
                <a:latin typeface="Arial"/>
              </a:rPr>
              <a:t>Сисели Саундерс</a:t>
            </a: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 је утемељила приступ комуникације са пацијентом који се заснива н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ff"/>
                </a:solidFill>
                <a:latin typeface="Arial"/>
              </a:rPr>
              <a:t>истин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ff"/>
                </a:solidFill>
                <a:latin typeface="Arial"/>
              </a:rPr>
              <a:t>отворености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; 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ff"/>
                </a:solidFill>
                <a:latin typeface="Arial"/>
              </a:rPr>
              <a:t>искрености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Алтернатива је приступ “</a:t>
            </a:r>
            <a:r>
              <a:rPr b="0" lang="sr-RS" sz="3600" spc="-1" strike="noStrike">
                <a:solidFill>
                  <a:srgbClr val="ff0000"/>
                </a:solidFill>
                <a:latin typeface="Arial"/>
              </a:rPr>
              <a:t>затворене свести</a:t>
            </a: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240" y="122400"/>
            <a:ext cx="79246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Комуникација – </a:t>
            </a:r>
            <a:r>
              <a:rPr b="1" lang="sr-RS" sz="4400" spc="-1" strike="noStrike">
                <a:solidFill>
                  <a:srgbClr val="0000ff"/>
                </a:solidFill>
                <a:latin typeface="Arial"/>
              </a:rPr>
              <a:t>саопштавање лоших вести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PIK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роток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0000"/>
                </a:solidFill>
                <a:latin typeface="Arial"/>
              </a:rPr>
              <a:t>Припрема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) пре састанка са пацијентом. Присуство члана породице је добра прак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0000"/>
                </a:solidFill>
                <a:latin typeface="Arial"/>
              </a:rPr>
              <a:t>Перцепција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ption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) – утврдити шта пацијент тренутно зна о својој боле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0000"/>
                </a:solidFill>
                <a:latin typeface="Arial"/>
              </a:rPr>
              <a:t>Добијање сигнала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itation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) – Треба добити јасан став да ли пацијент хоће да зна своје стање. Уколико не, опција су рођац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0000"/>
                </a:solidFill>
                <a:latin typeface="Arial"/>
              </a:rPr>
              <a:t>Сазнање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)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Дајте сигнал упозорењ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0000"/>
                </a:solidFill>
                <a:latin typeface="Arial"/>
              </a:rPr>
              <a:t>Емпатија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athy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) – прихватите реакцију и покажите емпатију, али без ублажавања реал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0000"/>
                </a:solidFill>
                <a:latin typeface="Arial"/>
              </a:rPr>
              <a:t>Сумирање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) – Резиме и стратегија за даљ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2T19:12:42Z</dcterms:created>
  <dc:creator>User</dc:creator>
  <dc:description/>
  <dc:language>en-US</dc:language>
  <cp:lastModifiedBy>Marko Slavkovic</cp:lastModifiedBy>
  <dcterms:modified xsi:type="dcterms:W3CDTF">2019-03-09T04:08:00Z</dcterms:modified>
  <cp:revision>176</cp:revision>
  <dc:subject/>
  <dc:title>Soft and Hard Skills Development: A Current Situation in Serbian Companies</dc:title>
</cp:coreProperties>
</file>